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EE8-16AD-4F8C-A803-1D5A4C03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E3E-403E-41AC-A4B8-CF9A574D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FC7A-55BE-4015-814A-D6966166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3F6-A5DD-4720-B7A1-B7D46086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E16-9509-4FD3-8133-025AC46B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3B9-82F8-432D-B326-A13F3FB6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40A-EEAF-438C-940A-547AFCF4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82D-2810-494E-B42E-08B3688B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4EF-5BFA-4509-8943-191957D6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897-DF44-4694-90E3-40AA65D9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548-5FF3-407C-B1FE-32DDEEFF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2F4-0E54-49B1-BC4C-1B47B5B4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6FE80-AD08-492A-8F39-20E6D42FE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182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mages of the Great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4582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9154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38280" y="-379440"/>
            <a:ext cx="7086600" cy="80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7724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9144000" cy="710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6868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2:06:41Z</dcterms:created>
  <dc:creator/>
  <dc:description/>
  <dc:language>en-US</dc:language>
  <cp:lastModifiedBy/>
  <cp:revision>1</cp:revision>
  <dc:subject/>
  <dc:title/>
</cp:coreProperties>
</file>